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FCD34-B1E0-4FAF-8A06-05147FBD9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460E3-0A12-40AB-8FD4-320540724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01104-978C-4320-B74A-F644886E1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0B09A-BDD6-48EA-8B9D-004A944A2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0C66-0D83-4DF7-861E-E349DAA42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5E0FC-A680-43C6-BF83-CBDED229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6CAF-BE6E-4763-9767-F8FFCD5A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D8C9F-D24B-41BB-A034-F691F90E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7A365-2B44-4B4C-84FB-8DF279B7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2143-71AB-494D-8920-519B66DF0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629CE-AF81-4D1B-883A-31CAA0F4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9190-AA31-4B5C-B743-0EA2ADEAB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1445-F41B-4196-8FC4-1A6EE4279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tess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bby Wh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pent 1 week getting ready for testing and about a day tes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thank all my testers, Mrs. Calderwood, and Mrs. Riff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and girl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tos have been around since he 60’s and have had more than 50 different flavors. Most of their flavors though, were discontinued like sour cream and ranch. They have recently brought back their most famous chip, and also the first, Taco flavo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it will be very hard for them to tell the difference because they taste almost the sa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ndf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feed them their chips and ask them which one they think it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uld mostly taste the difference but some had a little bit of trou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s easy to tell the difference between the two chips. My hypothesis was wr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31:28Z</dcterms:created>
  <dc:creator>USD376</dc:creator>
  <dc:description/>
  <dc:language>en-US</dc:language>
  <cp:lastModifiedBy>USD376</cp:lastModifiedBy>
  <dcterms:modified xsi:type="dcterms:W3CDTF">2012-03-08T14:40:14Z</dcterms:modified>
  <cp:revision>1</cp:revision>
  <dc:subject/>
  <dc:title>Tastesss</dc:title>
</cp:coreProperties>
</file>